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BEFC-0D80-415B-9776-6844C0B5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D60A-AE48-484C-841B-124BA07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0F0A-8103-4517-86AE-6F8867E6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57B7-D258-4B36-888B-FEFC8671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CCC7-D726-4FCA-8002-8FFCA134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7C2-253A-48CB-8A65-21C16D2D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D63A-9C01-4A66-9A16-8C418795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54AA-4928-4908-8A49-244D54B3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F07E-04CA-4C4A-AF81-F48FFC4A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A976-482A-49A2-A667-E2F4C399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04CE-24F1-46B8-BA87-E881121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D0FC-2B12-40AF-BF6C-17ED291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BC0-487B-4B7F-BDEB-21A86B2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A1D6-73C7-498E-B8C3-EBF780E7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B69-DAF4-4AF0-AFB1-3404E3C1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8E40-C970-433D-8260-06F7BC22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3C8D-F261-4AB8-9B96-D750040A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8869-4732-4F06-9391-E41ED32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A15E-2A9D-4D13-A33B-A383225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66D3-FF45-46A4-8B8C-C790844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7999-60B7-4596-A04F-483A4DE5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9C81-9F2E-4DAA-992C-002AD15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9E75-D4E2-4EA0-BDC6-3D3BEBB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D5EE-7D03-4598-90BB-8DEF3A1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33A-2373-41C4-BA54-0737AE32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8B1-DCDB-42B4-8B55-B25D79E52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ordination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renzo says he likes to travel, _____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ver seems to leave his hometow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renzo says he likes to travel, _____ 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ever seems to leave his hometow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islike cucumbers ___ they make me burp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therefore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, s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islike cucumbers ___ they make me burp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therefore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, s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ng teenagers are not little children, 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they fully grown adul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ng teenagers are not little children, 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they fully grown adul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grandparents are elderly, ______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lead fun, active liv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grandparents are elderly, ______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lead fun, active liv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f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disliked the movie _______, we could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p making fun of the bad ac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frequent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disliked the movie _______, we could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p making fun of the bad ac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frequent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coordinatio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ordina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joining of two closely related sent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LAT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TENC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Roy quit his job. He got a new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o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OIN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Roy quit his job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e got 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o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green vegetables ________,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arely eat broccoli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ther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stil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green vegetables ________,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arely eat broccoli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; ther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stil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void white rice and bread ____, eat who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rai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t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answer to fill i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void white rice and bread ____, eat whol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rai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; afterwar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; inste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; t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join sentences in the following ways. (See your textbook for more details and example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a and a coordinating conjun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or, and, nor, but, or, yet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s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: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like pizz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, but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try not to eat too much of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micolon (;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ease don’t pinch the bab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;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he’ll c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micolon and a conjunctive adver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ik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fterward, also, as a result, in addition, then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fo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ate too much pizz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; as a result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felt 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like the color of this shirt, ____ it does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like the color of this shirt, ____ it doesn’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graduated from high school, ____ now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 going to colle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graduated from high school, ____ now I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 going to colleg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n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loud music, ____ I am going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ar earplugs at the concer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answer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don’t like loud music, ____ I am going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ar earplugs at the concer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6:27:25Z</dcterms:modified>
  <cp:revision>169</cp:revision>
  <dc:subject/>
  <dc:title>Sentence Fragments</dc:title>
</cp:coreProperties>
</file>